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7F0-38DA-426B-846A-50D052BF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86A-FCB4-4429-B03C-A3A2EED8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C1280-BDA3-4FB0-B505-FDD22EFB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ECFE7-D0E2-4773-B718-819C1F3C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89FC1-6D31-4885-AD6C-8F1D768A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B794F-4FB0-42BD-BF5A-CBBAAAB8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DF943-7263-452F-B283-E579491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F0424-CC6C-4D3A-81FD-F74D0D2C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7BC1F-A947-4462-9FC9-45437186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874F-283D-49FD-88B9-702B2254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3DFA6-B792-4A31-A8E8-426A53D1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2B809-C3E3-46A9-917E-2D07C305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E7D-BC19-4BC9-A184-7B673263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2C407-0D0C-435C-ACAD-2965F950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B2EF7-6E29-4C52-A0DF-86B40223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7DBA8-7DEB-4F6E-A13E-609771DA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15CD1-CE5F-4C8B-ACAB-FAE736F6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1AC79-BFF7-4563-84DF-57FF21A7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43622-0F23-43D4-96EA-8CD3FCAF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3CC5E-2E4E-4D3A-8BDE-283DF459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242AD-241D-45B2-BBA4-BC1859DD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2B5F3-7237-42F7-9062-9D622DE3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36717-A003-4D58-843F-70C91C58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26B-30C2-4870-846A-06924C90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18422-1B5E-4A03-8396-11637427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E528D-B85F-43BA-B24B-48A1F15B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832B3-6BF4-4103-853A-48F69A9B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40D2B-8B62-4A81-ADB4-32FADDB6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F4595-FF1A-4F8C-BFFF-67C2CA8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08E05-4DC2-4A1D-AD66-0A2F1FF7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59956-1EBB-4CF0-9953-515C3933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3E5A9-376B-40CA-BCF5-6AEA175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14292-48C6-4A78-BBCB-AED3AA9A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261BF-3E74-4276-88E1-2D91768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FA28-5A31-4082-BA50-F22A0E28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4CBEC-5969-460D-9E23-C64E4E70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32D93-6B17-4E92-A8AD-B6E866F4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48351-463E-4AB8-B3F9-7BD89DF3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B77AF-BC83-4B6C-84E7-151185F0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468DD-C4D8-40AD-89A6-0940C211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2B3EE-30D8-495A-A795-81952F4D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5F803-6AAF-40DF-B1A6-7975D6F3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F0FCE-4876-4744-A9D3-D811143A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D2C87-0BB3-4112-A9B3-91A9E7F6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A7759-4BC0-4045-83E4-DCFFE37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FDF0-3137-4DF5-99FF-EEEE3BE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2FFB1-45D5-44A3-9549-E6975C5D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66034-E117-4CDE-A168-D740AE5D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F6FFB-FC18-49DD-B9AC-DD939AEE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F3B8F-B826-48B6-8AB9-DCDB0AC8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E0BE9-62A6-4863-8A3D-B0C431F1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6B542-1DC8-46E6-82CF-50D8398F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3A2F0-2C4B-412E-9959-248D7A73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E1C66-759B-48E9-A231-24B1866A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84674-EF47-4789-B1CE-DDFCC16B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DEBAE-E4FE-4AB6-9238-886DC065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FD9E-C8F7-4419-98DA-AC1B0A0A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89EBB-FA89-4F3A-AF30-6A6C5084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3A661-C1DB-45C4-B06B-1C236DD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F04BC-916F-4634-8B43-CD03FFCC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2922B-626B-4CF2-B9B3-A87F17A2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15EE9-9346-4221-9078-3B0296D1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97FF4-67B7-426A-8689-60B93715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6FBE5-13AD-43DC-A0A0-4C3DFDC2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A3EEE-B50A-4FE6-A72E-A1FE3FF8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0DAB4-8283-405A-A115-5822C6D0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E3763-89F9-4823-A3F3-EFE0142F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BBE5-97A9-4DFF-8444-D1953DA5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7F9E2-AFD3-44C3-9BBF-2B2C79C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D96C1-6788-4DA6-BE35-24164201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CACA0-8B5B-4D55-B08D-193F941C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D447D-CE0C-49D6-9A0B-6CC04B63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C003B-A563-4C52-960C-E754F955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F2954-1237-4D90-834A-5CCAAD1F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DE817-A1E6-491C-9927-2CEFF45F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F12E5-D5C9-4CDA-973B-EB03D8EB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18EED-B7FC-42B1-BB6E-F3C8EA0D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17D3F9-C26B-4755-85A6-6A90C7DC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0FD4-28C0-44B9-A255-66ECED27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DF565D-B342-4027-804B-137B3C0E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E8CF7D-5C21-40E1-8403-2D0BD2B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F3CF20-2BE7-42B0-9E45-89FDED4C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F347FF-6A85-4A87-B5C3-C26EFBA7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1CFF9F-AECB-4FB7-BD5E-18E9BFE5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799A79-DBDF-4930-8EDB-54A3E322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B85BC7-0E1E-4B37-8D5A-E8880626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9551C7-EE8F-457A-B424-6A0C962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F53872-39B5-4F81-8806-D0CED3CB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158684-1239-4945-89F0-EFE55AB8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B8F7-0A36-45F0-8DF2-2D5646F8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513FEF-7AD1-450A-B4A4-9435AC33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34A46A-5503-44E3-90BF-D56BB4DA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74B2FF-D596-49E7-9FC0-A8AFCD4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A55290-5757-4877-8320-12D5FFB3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89802B-21E9-4747-9A94-B30EAA16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B52AB0-959D-4E18-A541-70F2B716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841CE5-2CCB-4819-8156-D9C4F6E8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4BB7E0-91DC-4092-B9D6-C81891D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B7A1BF-7105-4B6A-B73F-91BC755A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EB2EAE-F141-4ADE-BA75-AAB468B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11C9-157A-4C22-AE5D-26DE596E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0B97D3-83AF-407C-BB2C-7AF74FE5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9C1CE5-51A6-44E8-A941-150050A7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127365-BCDB-4A9D-9103-DD311B28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420B46-6010-461C-992D-351483EA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3B8BC1-A890-4D88-8120-D024AC2B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4F11C9-512D-466D-A78A-E7F585F7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134CF1-7A80-4205-B297-AEC2B361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90714B-8F49-43E8-9838-657C7B85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A66B55-DEC2-4153-BB46-F30E128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7A1A30-E39C-487C-A7AC-8D4C8EC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250-1C8B-4C4E-8FC1-71ADB994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4B0A-725A-49A7-9ECA-634639F3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82F3C3-6715-463E-84D4-70DF6104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30A37E-CB26-479F-A4AF-8CD4B692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6D6E9E-A5B8-4ED0-A84F-51A27392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ECF987-1508-4822-920E-11738ED1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71F247-4542-407F-B826-410E986A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46D76-5193-483B-B668-674218AB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77D12-D0BF-483F-AC77-49C59905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7D31D-5ACA-48AC-BEEE-83FE036F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0ECD6-F36F-4DE8-9B11-EE33A58B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509B5-5B86-4831-8B0A-C7A7F02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CE2F-73EF-4CAC-9EDC-A371F6F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3B18F1-DD17-477E-9D48-6C1A970B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F5D70-ABC8-41CE-8436-03A11D2D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41C55-DA4B-48E7-9B18-52BE489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84782-3156-42DF-8302-1556950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3F159-0C46-4920-83B1-809C22AB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EDC54-D572-4B60-B907-2914F817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82F925-466A-4D36-BB52-4643F6DF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1262-3706-4DF1-877A-EC03907D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AB46-DF1D-4F2F-88D6-DE449273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5450-4668-4B5E-8441-5ECC5075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98FD-EE5E-433B-9AE2-8771BAF0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87D8-5FBE-483C-98F5-48663C5A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E702-57C2-487C-A46D-5EF47FE7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030F-B5BF-4EE8-84CC-1695AEE4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2B2E-8D03-4F3C-98D2-3A545AE9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CB7-61B0-42C6-B730-F3B24B00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C0BB-E7BD-445F-A809-BCAA2B15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79C4E-70C1-4C32-813B-E74937FD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63B5-B4C1-4AB9-91E0-20DEFB54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0530-88DD-4D4E-83DE-02FBFCC9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789E-A82E-45F2-8CCD-83FE13AB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5DE4-478F-47AC-9EFF-D5DCF801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A65C-C65B-45AD-BEB3-9C640940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11151-4066-440C-B024-4359829F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56128-312B-4234-960F-053C48E8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D5D50-321E-4DF5-8E06-6BCE3C6B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E75-E542-45A8-829A-25D5686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51DB-2A1D-4016-A6F3-6037FDE3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2C7D-0F09-4D8A-8CB8-479725AC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0F678-CA6D-4368-B2D5-B83BAFF6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0AB61-54D4-4FF7-A814-D3CBA86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0E97-1653-4CFC-9C88-0E2565F5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41C9-EDD4-4A89-86FB-A297D97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FE2F9-2D30-4D74-9FFD-B4B59A18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301D-17CD-45AE-8E49-A4930100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EC5E-2EB6-4DEB-9BB9-A4F9F64B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F83E4-F14E-4EA4-B890-5050642D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368-1D71-4AAE-8F6C-11323A0A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01271-F167-42C4-8BC5-FE49BED6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D22C0-CB46-4C70-8B4C-2298DA14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9C71-0511-4490-A2C4-527F7142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C431-15FE-4B8D-91DD-93C222C2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EC3D-7E63-4441-8648-1067AFE0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4450-794F-42B1-A16C-1710A3C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32427-B3B4-4D82-B427-91C65478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2EA0F-D316-4EF1-9273-D8E902D1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70F78-0E67-4FA8-BC48-541C541E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ACB97-1445-4C04-AA35-A52103F2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9DE-27A0-48BF-BBA2-79473A51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F0F48-44C1-4A62-A3DA-DC303ECB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CD7D-A3F9-427C-B48C-1AEA6560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E7D17-3B0A-4EF0-A454-5DD15DCA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16F57-8DB8-4F9C-9A8D-F3AE505C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52FD2-D36F-4299-8473-B3CC1B77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4C684-5E03-494B-B2BA-BDEA1609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A4E6C-2ECF-4C06-9370-5F482BB6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861FC-4FDF-417E-A898-E6514E75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243FC-5A3B-4224-8255-39D62200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AC4AD-313D-4C4F-93F9-6AA4D0D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7BB-4E98-4797-85FA-D8D65D2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ED9AB-510D-45F9-A7C9-6917609A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18930-F8A8-404B-AE5E-13A34239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F8D4-E4F4-4FCB-8D94-65ECAB1C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E2EAB-9C73-49C1-89DA-31066702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56F6D-9264-44C7-B306-B2FC96D3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13732-540B-4F3B-B47F-AB2C0B9F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5C0CB-87D5-4555-8CB7-0DE40D02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45F3A-9810-4E6A-9FE3-19F7534C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C666D-8BBF-489C-A85B-70C21139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D00DA-C2B7-4D15-BDC0-C006551C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3A5-116A-4A3B-B95E-EFC2F393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5BB72-7538-4F3D-8730-EEFF1343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600A8-FEC3-4000-9795-972BA62C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D09C6-D3B4-4D66-AA72-EAF1D671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F877C-BF6F-4191-9821-5DFFF2AB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B5AB1-4FEA-4858-A80B-F31A50E8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67D1-5E4D-4C03-AF05-D878AB32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ECAF4-020C-4009-A1A2-3F9DECB4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6B06A-63C0-409A-A78B-5A98D4A2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48DB4-434D-4C7B-83DF-09E3E2F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94033-EDDF-4F64-960E-771AAB80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F95-44B7-4ED4-B7B8-4837F96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A5FEE-14C5-44F3-891B-51259EA0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6BEE4-01B1-4833-A588-D570EC51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2C0E7-7B4E-4F69-BF1A-CA154915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7B7B3-1B22-44EB-8389-9117E53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5F943-E6A4-4729-9EA1-3D277799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9DF6B-A833-486D-9AD4-1CDC5EAC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6AF40-9D6B-4548-B5B4-C65422DC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75E29-1A22-4168-978A-F4F47DD7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0E8B7-287C-4E9F-9F15-A9224280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A5FFE-7745-4BC6-ADC7-FFFBF028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F5E2-653A-487B-8624-CE988AED6E7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4341-D379-4A70-98D0-537CA29922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0761-A890-425C-B234-A4600F226F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B45A-F5EB-4322-A4F0-95AA0BC655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4836-FD2E-41FC-B8BD-30DB466858A9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09E1-B06F-43EA-8724-9AEF10FB23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8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4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6380-DC38-470D-A500-C4ED59E0402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5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10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47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4612-B899-46B7-8397-1AC1E734C0A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48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0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4F4C-FA0B-4902-9C00-E64F827D2CF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5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traight Connector 8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3D26-BC73-4F89-868B-BDCB0963C2C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0FC8-8D9E-48A2-BF05-49E4F5F848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45C6-06A9-4FD0-B66A-372299739A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1336680"/>
            <a:ext cx="9144000" cy="55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CC74-2E14-4DD8-B087-9D520253CE2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9"/>
          <p:cNvSpPr/>
          <p:nvPr/>
        </p:nvSpPr>
        <p:spPr>
          <a:xfrm>
            <a:off x="0" y="133200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5A2F-B617-43B7-8E43-66DF93CB6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EBA6-762A-4BF1-A333-0BC2E6F3B6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B669-8AF2-4A7B-A8AB-EB01C38AF5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934A-A15B-4CAD-8A6E-B082A23FCE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1F4-FC63-497B-830B-ED0A47E8D968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radley Hand ITC"/>
              </a:rPr>
              <a:t>Mi Viaje a Costa Ric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3352680" y="3886200"/>
            <a:ext cx="289584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adley Hand ITC"/>
              </a:rPr>
              <a:t>Kendall Pa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6" descr="377333_22"/>
          <p:cNvPicPr/>
          <p:nvPr/>
        </p:nvPicPr>
        <p:blipFill>
          <a:blip r:embed="rId2"/>
          <a:stretch/>
        </p:blipFill>
        <p:spPr>
          <a:xfrm>
            <a:off x="0" y="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8" descr="377333_46"/>
          <p:cNvPicPr/>
          <p:nvPr/>
        </p:nvPicPr>
        <p:blipFill>
          <a:blip r:embed="rId3"/>
          <a:stretch/>
        </p:blipFill>
        <p:spPr>
          <a:xfrm>
            <a:off x="6705720" y="3276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9" descr="377333_41"/>
          <p:cNvPicPr/>
          <p:nvPr/>
        </p:nvPicPr>
        <p:blipFill>
          <a:blip r:embed="rId4"/>
          <a:stretch/>
        </p:blipFill>
        <p:spPr>
          <a:xfrm>
            <a:off x="0" y="16765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0" descr="377333_71"/>
          <p:cNvPicPr/>
          <p:nvPr/>
        </p:nvPicPr>
        <p:blipFill>
          <a:blip r:embed="rId5"/>
          <a:stretch/>
        </p:blipFill>
        <p:spPr>
          <a:xfrm>
            <a:off x="6705720" y="51055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1" descr="377333_13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2" descr="377333_12"/>
          <p:cNvPicPr/>
          <p:nvPr/>
        </p:nvPicPr>
        <p:blipFill>
          <a:blip r:embed="rId7"/>
          <a:stretch/>
        </p:blipFill>
        <p:spPr>
          <a:xfrm>
            <a:off x="0" y="34290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3" descr="377333_51"/>
          <p:cNvPicPr/>
          <p:nvPr/>
        </p:nvPicPr>
        <p:blipFill>
          <a:blip r:embed="rId8"/>
          <a:stretch/>
        </p:blipFill>
        <p:spPr>
          <a:xfrm>
            <a:off x="6705720" y="1676520"/>
            <a:ext cx="2438280" cy="16761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4" descr="377333_10"/>
          <p:cNvPicPr/>
          <p:nvPr/>
        </p:nvPicPr>
        <p:blipFill>
          <a:blip r:embed="rId9"/>
          <a:stretch/>
        </p:blipFill>
        <p:spPr>
          <a:xfrm>
            <a:off x="0" y="502920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15"/>
          <p:cNvSpPr/>
          <p:nvPr/>
        </p:nvSpPr>
        <p:spPr>
          <a:xfrm>
            <a:off x="2438280" y="3808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</a:rPr>
              <a:t>Mi Hot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  <a:ea typeface="Arial"/>
              </a:rPr>
              <a:t>é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2514600" y="1219320"/>
            <a:ext cx="3809880" cy="48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Querida Cait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¡Hola! llegué ayer en el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estin Golf Resort &amp; Spa. Estoy aqui con Heidi y Julia. El hot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él es muy boñito y muy grande.  El hotél tiene la piscina grande, y los cuartos boñitos. El hotél tiene una bueña vista. Hace buen tiempo.  El sol brilla. No hasté nublado. ¡Costa Rica es muy boñ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Kend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-360" y="26676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LU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794" name="Picture 5" descr="imagesCA9GIPW1"/>
          <p:cNvPicPr/>
          <p:nvPr/>
        </p:nvPicPr>
        <p:blipFill>
          <a:blip r:embed="rId1"/>
          <a:stretch/>
        </p:blipFill>
        <p:spPr>
          <a:xfrm>
            <a:off x="6543720" y="533520"/>
            <a:ext cx="2467080" cy="29718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6" descr="images"/>
          <p:cNvPicPr/>
          <p:nvPr/>
        </p:nvPicPr>
        <p:blipFill>
          <a:blip r:embed="rId2"/>
          <a:stretch/>
        </p:blipFill>
        <p:spPr>
          <a:xfrm>
            <a:off x="6629400" y="3809880"/>
            <a:ext cx="2381400" cy="274320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7"/>
          <p:cNvSpPr/>
          <p:nvPr/>
        </p:nvSpPr>
        <p:spPr>
          <a:xfrm>
            <a:off x="1447920" y="958680"/>
            <a:ext cx="41148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Querida Cait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¡Hola! ¿Como estas? Yo estoy bien. Hoy es Lunes. Hace buen tiempo. Hace color. No hasté nublado. 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Por la m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ñan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, yo fui  mont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a caballo en la selva y en la playa.  En la selva, yo llev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é los tenis, pero en la selva llevé las sandalias. Después, yo fui 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Koki Beach Restaurante.  ¡El comido fue delicioso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Kend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3"/>
          <a:stretch/>
        </p:blipFill>
        <p:spPr>
          <a:xfrm>
            <a:off x="328680" y="4800600"/>
            <a:ext cx="2847960" cy="17524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021280" cy="5508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Franklin Gothic Medium"/>
              </a:rPr>
              <a:t>                         </a:t>
            </a:r>
            <a:r>
              <a:rPr b="0" lang="en-US" sz="4300" spc="-1" strike="noStrike">
                <a:solidFill>
                  <a:srgbClr val="000000"/>
                </a:solidFill>
                <a:latin typeface="Aparajita"/>
              </a:rPr>
              <a:t>MARTES</a:t>
            </a:r>
            <a:endParaRPr b="0" lang="en-US" sz="4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5562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QUERIDA CAITLIN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Y ES MARTES. HACE MAL TIEMPO. ESTÁ LLOVIENDO. HAY NUBES. YO FUI A MUSEO JUAN SANTAMARÍA. FUE MUY INTERESANTE. YO FUI A MONTEVERDE CHEESE FACTORY TAMBIEN. EL QUESO FUE BUENO. YO TRAJÉ UN UNBRELLA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BRAZOS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KENDALL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6738840" y="4905360"/>
            <a:ext cx="2467080" cy="1952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"/>
          <p:cNvPicPr/>
          <p:nvPr/>
        </p:nvPicPr>
        <p:blipFill>
          <a:blip r:embed="rId2"/>
          <a:stretch/>
        </p:blipFill>
        <p:spPr>
          <a:xfrm>
            <a:off x="6738840" y="3057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"/>
          <p:cNvPicPr/>
          <p:nvPr/>
        </p:nvPicPr>
        <p:blipFill>
          <a:blip r:embed="rId3"/>
          <a:stretch/>
        </p:blipFill>
        <p:spPr>
          <a:xfrm>
            <a:off x="6738840" y="1447920"/>
            <a:ext cx="2386080" cy="1609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4"/>
          <a:stretch/>
        </p:blipFill>
        <p:spPr>
          <a:xfrm>
            <a:off x="6738840" y="28440"/>
            <a:ext cx="238608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Box 1"/>
          <p:cNvSpPr/>
          <p:nvPr/>
        </p:nvSpPr>
        <p:spPr>
          <a:xfrm>
            <a:off x="5181480" y="-66204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ércoles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2"/>
          <p:cNvSpPr/>
          <p:nvPr/>
        </p:nvSpPr>
        <p:spPr>
          <a:xfrm>
            <a:off x="1608120" y="1413000"/>
            <a:ext cx="624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da Caitl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Hola! ¿Como estas? Yo estoy bien. Hoy es Miércoles. Hace buen tiempo. Hace color y el sol brilla.  Yo fui a la playa. Yo fui con Heidi y Julia.  nosotros llevamos unos traje de baños y unas gafas de sol. Yo trajé la loción bronceadora y Heidi trajó unas toalla playeras. Yo practicé el surfing. Julia esquió en el agua. Buceamos y nadamos en el agua tambien. ¡Fue muy divertido! Nosotros no practicamos la plancha de vela. ¡Ad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dall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2"/>
          <a:stretch/>
        </p:blipFill>
        <p:spPr>
          <a:xfrm>
            <a:off x="3176640" y="4511520"/>
            <a:ext cx="2979720" cy="23464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"/>
          <p:cNvPicPr/>
          <p:nvPr/>
        </p:nvPicPr>
        <p:blipFill>
          <a:blip r:embed="rId3"/>
          <a:stretch/>
        </p:blipFill>
        <p:spPr>
          <a:xfrm>
            <a:off x="0" y="4511520"/>
            <a:ext cx="3214800" cy="23464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"/>
          <p:cNvPicPr/>
          <p:nvPr/>
        </p:nvPicPr>
        <p:blipFill>
          <a:blip r:embed="rId4"/>
          <a:stretch/>
        </p:blipFill>
        <p:spPr>
          <a:xfrm>
            <a:off x="6156360" y="4541760"/>
            <a:ext cx="3006720" cy="23162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"/>
          <p:cNvPicPr/>
          <p:nvPr/>
        </p:nvPicPr>
        <p:blipFill>
          <a:blip r:embed="rId5"/>
          <a:stretch/>
        </p:blipFill>
        <p:spPr>
          <a:xfrm>
            <a:off x="304920" y="136440"/>
            <a:ext cx="1923840" cy="127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Box 1"/>
          <p:cNvSpPr/>
          <p:nvPr/>
        </p:nvSpPr>
        <p:spPr>
          <a:xfrm>
            <a:off x="1905120" y="2476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Jue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2"/>
          <p:cNvSpPr/>
          <p:nvPr/>
        </p:nvSpPr>
        <p:spPr>
          <a:xfrm>
            <a:off x="2936880" y="1828800"/>
            <a:ext cx="397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da Caitl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y es Jueves. El sol brilla. A veces hat nubes.Yo jugué el tenis con Heidi. Nosotros trajamos dos raquetas y tres pelotas. Yo jugué el gulfo tambien. Yo jugué con julia. Después, nosotros fuimos a Colbert Restaurante. La comida fue intaliano. ¡Es fue Delicios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os y 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d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7294680" y="0"/>
            <a:ext cx="1849320" cy="16765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"/>
          <p:cNvPicPr/>
          <p:nvPr/>
        </p:nvPicPr>
        <p:blipFill>
          <a:blip r:embed="rId3"/>
          <a:stretch/>
        </p:blipFill>
        <p:spPr>
          <a:xfrm>
            <a:off x="7294680" y="1666800"/>
            <a:ext cx="1877760" cy="16797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6" descr=""/>
          <p:cNvPicPr/>
          <p:nvPr/>
        </p:nvPicPr>
        <p:blipFill>
          <a:blip r:embed="rId4"/>
          <a:stretch/>
        </p:blipFill>
        <p:spPr>
          <a:xfrm>
            <a:off x="7294680" y="5194440"/>
            <a:ext cx="1877760" cy="16635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7" descr=""/>
          <p:cNvPicPr/>
          <p:nvPr/>
        </p:nvPicPr>
        <p:blipFill>
          <a:blip r:embed="rId5"/>
          <a:stretch/>
        </p:blipFill>
        <p:spPr>
          <a:xfrm>
            <a:off x="7294680" y="3346560"/>
            <a:ext cx="1887480" cy="1847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"/>
          <p:cNvPicPr/>
          <p:nvPr/>
        </p:nvPicPr>
        <p:blipFill>
          <a:blip r:embed="rId6"/>
          <a:stretch/>
        </p:blipFill>
        <p:spPr>
          <a:xfrm>
            <a:off x="9360" y="4572000"/>
            <a:ext cx="2498760" cy="2286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9" descr=""/>
          <p:cNvPicPr/>
          <p:nvPr/>
        </p:nvPicPr>
        <p:blipFill>
          <a:blip r:embed="rId7"/>
          <a:stretch/>
        </p:blipFill>
        <p:spPr>
          <a:xfrm>
            <a:off x="9360" y="2209680"/>
            <a:ext cx="2498760" cy="23623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0" descr=""/>
          <p:cNvPicPr/>
          <p:nvPr/>
        </p:nvPicPr>
        <p:blipFill>
          <a:blip r:embed="rId8"/>
          <a:stretch/>
        </p:blipFill>
        <p:spPr>
          <a:xfrm>
            <a:off x="9360" y="0"/>
            <a:ext cx="249876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Box 1"/>
          <p:cNvSpPr/>
          <p:nvPr/>
        </p:nvSpPr>
        <p:spPr>
          <a:xfrm>
            <a:off x="1019160" y="457200"/>
            <a:ext cx="66009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Vier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Querida Caitl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¡Hola! Hace color. El sol brilla. Hoy es Viernes. Nosotros nadamos en la piscina de hotél. No fuimos a la playa.  Julia, heidi, y yo fuimos perezamos. Después, nosotros hacamos las maletas. Fuimos triste.  La viaje fue divertido. ¡Ad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Kend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58128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16:01Z</dcterms:created>
  <dc:creator>palinken</dc:creator>
  <dc:description/>
  <dc:language>en-US</dc:language>
  <cp:lastModifiedBy>palinken</cp:lastModifiedBy>
  <dcterms:modified xsi:type="dcterms:W3CDTF">2012-11-30T16:43:43Z</dcterms:modified>
  <cp:revision>25</cp:revision>
  <dc:subject/>
  <dc:title>Mi Viaje a Costa Rica</dc:title>
</cp:coreProperties>
</file>